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616-60AF-4921-BF20-64795201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484-ADE5-4E51-A767-F1334CE3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D621-AA90-4AF3-AD8C-0CFA2E84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AC2-B11E-4BD3-AB12-30A12C3A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35F6-D280-417D-AEC7-1F9B217F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9400-D948-4478-8AE8-F7EB673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EB7A-28D6-4F9A-91F7-1D4F204C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D7A1-0513-4D69-96E8-B472343A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6B80-C63B-4C5C-9D7B-A206141A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A1D5-8450-4D32-A617-55B5257B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3E7E-EDE9-42C9-BEA2-E87395C2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DA5-609C-43F3-8718-AFAA40CB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27C2-1009-4C38-96C7-1A98730F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E584-3296-4852-9C79-E304371E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4C0C-8623-4092-AE20-89FA669E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F87E-81C2-4EDF-A71A-DC2E6B9B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B542-9A31-4B9A-BA60-C17155D6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4A0-6F5F-432B-A13D-08C59754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7D4-786B-4207-A242-A0DECF0D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9C0C-6C0A-4409-9BE2-1088CE30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1CE-0D1F-420F-9C1B-0B6D909E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A3C-D20F-4639-8AC3-00BA3102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A2A-87D4-43E6-A97E-0C049B89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12E5-BDD1-4FE5-AE1F-F158A387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3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804960" y="117360"/>
            <a:ext cx="66600" cy="522360"/>
            <a:chOff x="804960" y="117360"/>
            <a:chExt cx="66600" cy="522360"/>
          </a:xfrm>
        </p:grpSpPr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C18B-074A-4BFB-A184-C244D0C424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0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80920" y="117360"/>
              <a:ext cx="66960" cy="2124360"/>
              <a:chOff x="880920" y="117360"/>
              <a:chExt cx="66960" cy="2124360"/>
            </a:xfrm>
          </p:grpSpPr>
          <p:sp>
            <p:nvSpPr>
              <p:cNvPr id="69" name=""/>
              <p:cNvSpPr/>
              <p:nvPr/>
            </p:nvSpPr>
            <p:spPr>
              <a:xfrm>
                <a:off x="880920" y="117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80920" y="347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80920" y="574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80920" y="1033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80920" y="1260360"/>
                <a:ext cx="66960" cy="669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0920" y="1490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80920" y="1717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920" y="1947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80920" y="21765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80920" y="804960"/>
                <a:ext cx="66960" cy="633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80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1E032-67D9-493C-AF64-1EB9BD3434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bcbcb"/>
                </a:solidFill>
                <a:latin typeface="Times New Roman"/>
              </a:rPr>
              <a:t>SABER vs. </a:t>
            </a:r>
            <a:br>
              <a:rPr sz="6600"/>
            </a:br>
            <a:r>
              <a:rPr b="0" lang="en-US" sz="6600" spc="-1" strike="noStrike">
                <a:solidFill>
                  <a:srgbClr val="cbcbcb"/>
                </a:solidFill>
                <a:latin typeface="Times New Roman"/>
              </a:rPr>
              <a:t>CONOCER</a:t>
            </a:r>
            <a:endParaRPr b="0" lang="en-US" sz="6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age 14 – Lección Prelimin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ancemos 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 vs.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99"/>
                </a:solidFill>
                <a:latin typeface="Times New Roman"/>
              </a:rPr>
              <a:t>Conocemos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al Dr. Fernández y a toda su familia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4800" spc="-1" strike="noStrike">
                <a:solidFill>
                  <a:srgbClr val="330099"/>
                </a:solidFill>
                <a:latin typeface="Times New Roman"/>
              </a:rPr>
              <a:t>Conoce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Uds. el jardín zoológico de Mérida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The Verb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member the personal “a”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ozco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María Teresa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oces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ellas?  Si las conozco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nozco Madri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y is it not used abov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The Verb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is followed by the personal a when the direct object is a person.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irect object pronouns can also be used with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The Verb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¿Conocen Uds.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a la señor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que trabaja en el laboratorio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,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l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conocemos bien.  ¿Quieres </a:t>
            </a: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conocerla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 vs.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In the preterite, conocer means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to meet someone for the fi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st time”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0099"/>
                </a:solidFill>
                <a:latin typeface="Times New Roman"/>
              </a:rPr>
              <a:t>Conocí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a dos c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íticos que trabajan para el periódico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¿Los 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conocist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en la conferencia de ay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ABER means…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o Know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e use SABER to talk about knowing facts or information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SABER - present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sotros      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osotros      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sa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17524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048120" y="2209680"/>
            <a:ext cx="304560" cy="53352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bcbcb"/>
                </a:solidFill>
                <a:latin typeface="Times New Roman"/>
              </a:rPr>
              <a:t>SABER - preterite</a:t>
            </a:r>
            <a:endParaRPr b="0" lang="en-US" sz="6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is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p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343040" y="15238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sotros      supim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osotros      supiste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l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supier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1752480"/>
            <a:ext cx="0" cy="42674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962520"/>
            <a:ext cx="152640" cy="1752480"/>
          </a:xfrm>
          <a:custGeom>
            <a:avLst/>
            <a:gdLst>
              <a:gd name="textAreaLeft" fmla="*/ 0 w 152640"/>
              <a:gd name="textAreaRight" fmla="*/ 55080 w 15264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die </a:t>
            </a:r>
            <a:r>
              <a:rPr b="1" lang="en-US" sz="4800" spc="-1" strike="noStrike">
                <a:solidFill>
                  <a:srgbClr val="330099"/>
                </a:solidFill>
                <a:latin typeface="Times New Roman"/>
              </a:rPr>
              <a:t>sab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la fecha del exame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n-US" sz="4800" spc="-1" strike="noStrike">
                <a:solidFill>
                  <a:srgbClr val="330099"/>
                </a:solidFill>
                <a:latin typeface="Times New Roman"/>
              </a:rPr>
              <a:t>Saben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Uds. Quién es ese actor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ber followed by an infinitive means “to know how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r supuesto, yo </a:t>
            </a:r>
            <a:r>
              <a:rPr b="1" lang="en-US" sz="4400" spc="-1" strike="noStrike">
                <a:solidFill>
                  <a:srgbClr val="330099"/>
                </a:solidFill>
                <a:latin typeface="Times New Roman"/>
              </a:rPr>
              <a:t>sé us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la computador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No, mi hermanito no </a:t>
            </a:r>
            <a:r>
              <a:rPr b="1" lang="es-ES" sz="4400" spc="-1" strike="noStrike">
                <a:solidFill>
                  <a:srgbClr val="330099"/>
                </a:solidFill>
                <a:latin typeface="Times New Roman"/>
              </a:rPr>
              <a:t>sabe manejar</a:t>
            </a: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SABER vs. CONOCER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Conoc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means “to know” in the sense of being acquainted or familiar with a person, place, or th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CONOCER (To Know)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41936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z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4340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sotros    conocé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1981080"/>
            <a:ext cx="0" cy="4419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95120" y="2361960"/>
            <a:ext cx="304920" cy="609480"/>
          </a:xfrm>
          <a:prstGeom prst="line">
            <a:avLst/>
          </a:prstGeom>
          <a:ln cap="sq"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4495680"/>
            <a:ext cx="457200" cy="1752840"/>
          </a:xfrm>
          <a:custGeom>
            <a:avLst/>
            <a:gdLst>
              <a:gd name="textAreaLeft" fmla="*/ 0 w 457200"/>
              <a:gd name="textAreaRight" fmla="*/ 164880 w 457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4572000"/>
            <a:ext cx="533520" cy="1752480"/>
          </a:xfrm>
          <a:custGeom>
            <a:avLst/>
            <a:gdLst>
              <a:gd name="textAreaLeft" fmla="*/ 0 w 533520"/>
              <a:gd name="textAreaRight" fmla="*/ 192600 w 5335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bcbcb"/>
                </a:solidFill>
                <a:latin typeface="Times New Roman"/>
              </a:rPr>
              <a:t>CONOCER (preterite)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441936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4340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m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sotros   conocist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conoc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er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1981080"/>
            <a:ext cx="0" cy="4419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4495680"/>
            <a:ext cx="457200" cy="1752840"/>
          </a:xfrm>
          <a:custGeom>
            <a:avLst/>
            <a:gdLst>
              <a:gd name="textAreaLeft" fmla="*/ 0 w 457200"/>
              <a:gd name="textAreaRight" fmla="*/ 164880 w 4572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4572000"/>
            <a:ext cx="533520" cy="1752480"/>
          </a:xfrm>
          <a:custGeom>
            <a:avLst/>
            <a:gdLst>
              <a:gd name="textAreaLeft" fmla="*/ 0 w 533520"/>
              <a:gd name="textAreaRight" fmla="*/ 192600 w 5335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21:31:00Z</dcterms:created>
  <dc:creator>NIHS</dc:creator>
  <dc:description/>
  <dc:language>en-US</dc:language>
  <cp:lastModifiedBy>Local User</cp:lastModifiedBy>
  <dcterms:modified xsi:type="dcterms:W3CDTF">2009-08-24T18:04:55Z</dcterms:modified>
  <cp:revision>8</cp:revision>
  <dc:subject/>
  <dc:title>No Slide Title</dc:title>
</cp:coreProperties>
</file>